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42A-1CD3-46EF-B213-D760A4C0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0F1-51D8-4F3A-B974-96107FAB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3BF-8F96-483A-89D1-847B9869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5E3-A108-4382-B4FF-2B6B5846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DA32-528B-4F00-B3C3-D2D457A9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03BE-E4ED-4E58-A779-3FC90B22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A12F-2140-4724-8732-62A2338C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C3AD-8335-441B-AC3D-EB1385D8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1041-6BA6-4F5A-BE2F-CE712D17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5B71-61BD-4619-AD00-BCBF26A0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9E46-1CEA-4EFB-8BA7-D6FB6173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2A1-CE36-4EFE-8620-372F9BBE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44D9-2FD2-48ED-A8CE-AC740216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D3B4-DAAB-41A1-8128-E9261A1F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124A-879A-4565-AB11-500F1987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0589-8CD7-4BDD-B09F-0D2455C9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1095-2747-455A-828D-6164B448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282-F91F-42E9-9333-B735AF7B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4F92-D52B-493F-AFA4-3CC8CAE6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75E-A23C-4755-92F2-5474A77B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598-C8B7-4488-99DD-06422480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DF0D-5133-4C92-A768-65CB6FBC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9136-0CD5-483E-9EF0-306F124D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68D-F034-4034-8D51-26C493D5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AE73-3702-483D-8402-7312B42545E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CF26-D731-4C4E-9B2F-0CE3634A812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quest of the La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438280" y="3580920"/>
            <a:ext cx="5486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3, Lesson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h. 7:1 – 9:2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Pages 25-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3352680"/>
            <a:ext cx="5943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ut, let’s review first…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id Israel cross the Jordan riv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memorials were set u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two important events occurred at Gilg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as Jericho defeat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was Rahab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role does she play lat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5362560" cy="6718680"/>
            <a:chOff x="0" y="0"/>
            <a:chExt cx="5362560" cy="6718680"/>
          </a:xfrm>
        </p:grpSpPr>
        <p:pic>
          <p:nvPicPr>
            <p:cNvPr id="115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6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846240" y="638640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3480" y="645228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H="1">
            <a:off x="3200400" y="1752480"/>
            <a:ext cx="228600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638680" y="380880"/>
            <a:ext cx="3267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Central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1981080"/>
            <a:ext cx="3657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Sin of Acha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7:1-26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rael defeated at A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6 Israelites killed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:1-1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son: Si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:11-12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n to find the “accursed” ma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:13-1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han, and all his possessions, destroye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:19-26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What did Achan take?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Ebal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Gerizi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3809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38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3200400" y="1752480"/>
            <a:ext cx="228600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38680" y="380880"/>
            <a:ext cx="3267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Central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1981080"/>
            <a:ext cx="3657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Defeat of A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8:1-29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n to take A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1-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ople of Ai ambushed by Israel – none escap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9-22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i destroyed by fir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23-2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ing of Ai hange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29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What was Joshua doing during the battle?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3809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Ebal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Gerizi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62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65" name=""/>
          <p:cNvSpPr/>
          <p:nvPr/>
        </p:nvSpPr>
        <p:spPr>
          <a:xfrm flipH="1">
            <a:off x="3200400" y="1752480"/>
            <a:ext cx="228600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638680" y="380880"/>
            <a:ext cx="3267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Central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2" name=""/>
          <p:cNvSpPr/>
          <p:nvPr/>
        </p:nvSpPr>
        <p:spPr>
          <a:xfrm>
            <a:off x="5486400" y="1981080"/>
            <a:ext cx="3657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srael Claims the La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8:30-35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shua builds an altar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30-31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law of Moses written on the stone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32-33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law read to ALL the peopl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34-3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Where was the ark at this time?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member: Deut. 27:1-14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2743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t. Eb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t. Gerizi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5638680"/>
            <a:ext cx="38098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entral Campaign is finished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87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90" name=""/>
          <p:cNvSpPr/>
          <p:nvPr/>
        </p:nvSpPr>
        <p:spPr>
          <a:xfrm flipH="1">
            <a:off x="2895120" y="1752480"/>
            <a:ext cx="2590920" cy="2743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Sou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7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4038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Ebal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Gerizi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2057400"/>
            <a:ext cx="380988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Deceit of the Gibeoni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9:1-27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ings gather to fight Israel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1-2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beonites strategy to deceive Joshu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3-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shua and the elders fall for the story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6-14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rael made a treaty with the Gibeonite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1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4419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4267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213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216" name=""/>
          <p:cNvSpPr/>
          <p:nvPr/>
        </p:nvSpPr>
        <p:spPr>
          <a:xfrm flipH="1">
            <a:off x="2895120" y="1752480"/>
            <a:ext cx="2590920" cy="2743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Sou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1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6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8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038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Ebal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Gerizi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2057400"/>
            <a:ext cx="38098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Deceit of the Gibeoni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9:1-27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rael learns of the deceit but honors the treat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16-2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beonites becomes servants to Israel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21-27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Why was it wrong to make a treaty?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4267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4419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7:00:00Z</dcterms:created>
  <dc:creator>Terry W. Benton</dc:creator>
  <dc:description/>
  <dc:language>en-US</dc:language>
  <cp:lastModifiedBy>Frank D Vines</cp:lastModifiedBy>
  <dcterms:modified xsi:type="dcterms:W3CDTF">2008-10-04T22:29:39Z</dcterms:modified>
  <cp:revision>27</cp:revision>
  <dc:subject/>
  <dc:title>Joshua: The New Leader</dc:title>
</cp:coreProperties>
</file>